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AC1B-9999-4940-915F-3C18B558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81E9-20D1-408F-A7FA-2B54E019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EB82-9697-4224-B005-46B77190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0F33-C5F6-4C6A-BA52-5EF01D74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F5B-4E02-43F1-AA6E-F299E61D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C1BD-FBBD-4B14-B310-D27FFDEC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D78-BA4A-47D4-8E79-D5459EEE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B6B-E03B-4809-AB37-C72A6A3C8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D322-0E2E-4757-B191-AF62CD43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337C-7EFC-4064-826E-0598BC77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DE08-593B-4E3D-9464-C2457B5B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1BD-AD0F-42A5-BDFF-39CE7AC5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09F5-BD5E-447B-8293-6E02EE602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our norm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investig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keep the launch force the same and ad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unch from 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rst use one panc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n add another – launch a stack of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inally, launch a stack of th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Three trials each, same force each ti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esenting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one piece of chart pape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lay your data tables and graph 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you increased force, but kept the mass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increased mass and kept the force the s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Law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Newton M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Second Law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=m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=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en you applied more force to the same mass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en you increased the mass . .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Faking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a few minutes to read through the second law examples and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ton’s Laws of Mo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w: Law of Inert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bject at rest stays at rest, an object in motion remains in motion unless acted upon by a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aw: F=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ce acting on a body is directly proportional to (and in the same direction as) its accel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Law: Action/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action, there is an equal and opposite reaction (for every push, there is a push b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 where’s the ma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tional Board for Professional Teaching Standar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ne(s) best fit(s) what we have been doing this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is in your notebook with justifications for each standard you ch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o Math and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lec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your interactive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about the math and science we have worked on this mor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can these lessons be used to benefit your students?  (And how might you modify them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mpact did this have on your thinking about how you can use math/science connections in your classro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ease sit with a group of two math and two science teach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least have one math and one science teacher in your grou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“dot diagram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with your group members how the diagrams illustrate accel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other side of the page, work with your group to draw Renatta’s oil dri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ing up your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in velocity over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en-US" sz="4800" spc="-1" strike="noStrike" u="sng" baseline="-25000">
                <a:solidFill>
                  <a:srgbClr val="000000"/>
                </a:solidFill>
                <a:uFillTx/>
                <a:latin typeface="Arial"/>
              </a:rPr>
              <a:t>f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 – v</a:t>
            </a:r>
            <a:r>
              <a:rPr b="0" lang="en-US" sz="48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∆v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– t</a:t>
            </a:r>
            <a:r>
              <a:rPr b="0" lang="en-US" sz="4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∆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ve this . . 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your acceleration if you speed up from 5 m/s to 40 m/s in 5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if you accelerate in a bass boat from a stop to a speed of 50m/s in only 8 seco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r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ake Catap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it.  Modified dir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Member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p. 18 &amp;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/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oter/safety offic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er/data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/retu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ncake Catap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the modified directions (after page 1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distance when you change the force appl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your data in your interactive note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make note of any questions you h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0T21:50:17Z</dcterms:created>
  <dc:creator>HISD</dc:creator>
  <dc:description/>
  <dc:language>en-US</dc:language>
  <cp:lastModifiedBy>HISD</cp:lastModifiedBy>
  <dcterms:modified xsi:type="dcterms:W3CDTF">2008-09-10T22:58:17Z</dcterms:modified>
  <cp:revision>3</cp:revision>
  <dc:subject/>
  <dc:title>Accelerating  into Math and Science</dc:title>
</cp:coreProperties>
</file>